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316-1A6A-4462-807B-D0751CEC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97E-A67F-4A8E-9530-8139EFC0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A82-0C5C-481F-B7E1-7102549A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16A-089C-463E-98CC-D88584B8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62D-97B7-42B1-AF91-3D88F381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7F6-870C-4AC0-A563-DAF5DB3B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499-52E5-4526-8272-7EF545DD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CA6-5B50-4AC0-8380-1FBAAE1D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E92-9A2B-4912-9B8B-F5A32123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691-2B1A-41E2-9CA4-24E1026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34F-018B-4537-BA7B-B9C7ABE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9D9-4C80-4364-98F4-38112B0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D8FD-A36B-4771-B3F1-CA723830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Olympic_Ring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Olympic_Ring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620640"/>
            <a:ext cx="53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 Links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File:Olympic Ring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421000"/>
            <a:ext cx="7620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5080" cy="72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87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35280" y="4757760"/>
            <a:ext cx="705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 hiver quand il neige et le ciel est gris j’aime faire du ski surtout pendant les vacances en févr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neige c’est super parce que c’est blanc et fro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50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479736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 été quand il y a du soleil et le ciel est bleu j’aime faire de la natation surtout pendant les vacances en a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û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soleil c’est super parce que c’est jaune et cha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5080" cy="7203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0000" y="350028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n Sport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ss ........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5080" cy="720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8000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bbl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, word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ectives – vocabular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recognition – sentenc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the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e bubble map – hands on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28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28360" cy="6832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9236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4005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ch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flipH="1">
            <a:off x="2626560" y="3933720"/>
            <a:ext cx="5651640" cy="2305080"/>
          </a:xfrm>
          <a:prstGeom prst="wedgeRoundRectCallout">
            <a:avLst>
              <a:gd name="adj1" fmla="val -55986"/>
              <a:gd name="adj2" fmla="val 660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60280"/>
            <a:ext cx="5616720" cy="280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765000"/>
            <a:ext cx="51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 gibt einen grossen Dom in Winchester aber keinen Dom in Southamp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22100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y a un grand st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 Southampton mais pas de st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Winch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28360" cy="683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5280" y="3789360"/>
            <a:ext cx="17287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dg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3860640"/>
            <a:ext cx="158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dg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9940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H="1">
            <a:off x="2626560" y="3933720"/>
            <a:ext cx="5651640" cy="2305080"/>
          </a:xfrm>
          <a:prstGeom prst="wedgeRoundRectCallout">
            <a:avLst>
              <a:gd name="adj1" fmla="val -55986"/>
              <a:gd name="adj2" fmla="val 660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60280"/>
            <a:ext cx="5616720" cy="280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765000"/>
            <a:ext cx="51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or 10 Jahren gab es weniger 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äus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Hedge End aber heutzutage gibt es zu vi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407664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y a dix ans il y avait moins de circulation mais aujourd’hui il y en a tro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uble Bubbl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and contrasting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e bubble map – link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host countries, ven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153800" cy="70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153800" cy="7085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773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me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177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me 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48428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 me brosse l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30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 m’hab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4941720"/>
            <a:ext cx="20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di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486900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 mange un petit cro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low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bial time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– instructions – imper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the cards i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s – Day in the life of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ulti-Flow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162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régime de l’ ath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0686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m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306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s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068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08360" y="162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06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306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306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99400" cy="670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3213000"/>
            <a:ext cx="194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400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51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59280" y="1557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068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3068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06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95868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 reco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620640"/>
            <a:ext cx="53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 Links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File:Olympic Ring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421000"/>
            <a:ext cx="7620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ircl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ainstorming a new topic – sharing your existing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list for progress – colour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/F activity – place/drag the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/F activity – vote by moving to the right place - h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sion – Ich weiss,dass er ……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ch bin nicht sicher, ob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sais qu’il …… mais je 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is pas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s’il 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851040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-326880"/>
            <a:ext cx="8569080" cy="74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-138240"/>
            <a:ext cx="8675640" cy="754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4800"/>
            <a:ext cx="8582040" cy="74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rac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dow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building – dictiona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ing skills – sort cards 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irst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ut missing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3:29:25Z</dcterms:created>
  <dc:creator>jbiddle</dc:creator>
  <dc:description/>
  <dc:language>en-US</dc:language>
  <cp:lastModifiedBy>jbiddle</cp:lastModifiedBy>
  <dcterms:modified xsi:type="dcterms:W3CDTF">2011-09-21T16:24:00Z</dcterms:modified>
  <cp:revision>20</cp:revision>
  <dc:subject/>
  <dc:title>Slide 1</dc:title>
</cp:coreProperties>
</file>